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410E-8C09-4408-978D-BEE25CA46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9D6E-4429-4E3A-9695-755F70858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9BE1-6D47-4C46-8398-F9B0832A5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6A0A-E952-45D6-9609-BB4AFD16B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2185-1FC1-4131-8E6E-BD9236FBD6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454B-0E65-463F-9BE4-37E3E867F8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E7AF-8406-4FD8-9B11-14A1B5DA8E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861D-3FA6-4AB8-B5D9-AA7DF244A8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4345-E55A-49DF-ADF3-B992AB9225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88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34D3-D2EC-4657-ABBD-4FCA554F14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C9C9-46D6-4A57-A38B-5744D8FD0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D40C-A6E2-4966-AA73-1F5462AB0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A784-E0C2-4603-B7B1-116EB89D63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A863-D016-4176-845D-50FDD994B3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1763-096D-4AE1-BA42-40EE816154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E669-42B7-41CC-92BE-08CE29A4A2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11F5-01FD-409C-A2B8-0D67C57D85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50C2-1E60-4D79-964D-64FF418EB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08CD-CD81-4C6F-B22C-36FD87960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1289-C448-4FF7-B76E-2BDA15C13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88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DAB8-E0EC-45E4-9BF1-300BF41AD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EFE9-F5E5-4DAB-860A-D7E6DE49C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9558-3F47-40D8-91C2-9966D64F1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C3F8-4F15-4A29-9436-8EB8C2FE7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545472"/>
              </a:buClr>
              <a:buSzPct val="8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630360" indent="-285840">
              <a:spcBef>
                <a:spcPts val="799"/>
              </a:spcBef>
              <a:buClr>
                <a:srgbClr val="545472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0303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4875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19447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19447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19447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38960" y="653220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4C8F-0316-4E1A-A10C-8626127D8F21}" type="slidenum">
              <a: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3760" y="1109520"/>
            <a:ext cx="9151560" cy="757080"/>
            <a:chOff x="23760" y="1109520"/>
            <a:chExt cx="9151560" cy="757080"/>
          </a:xfrm>
        </p:grpSpPr>
        <p:sp>
          <p:nvSpPr>
            <p:cNvPr id="40" name=""/>
            <p:cNvSpPr/>
            <p:nvPr/>
          </p:nvSpPr>
          <p:spPr>
            <a:xfrm>
              <a:off x="23760" y="110952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3760" y="127476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76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1840" y="1536480"/>
              <a:ext cx="385560" cy="2984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61960" y="110952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800" y="110952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14800" y="117000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70640" y="110952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02120" y="135576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08640" y="125064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13320" y="150012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40520" y="1622160"/>
              <a:ext cx="647640" cy="1555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41080" y="170172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4120" y="153180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04560" y="119988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68000" y="134136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60000" y="1596960"/>
              <a:ext cx="495360" cy="24768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34560" y="157140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657120" y="141120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82960" y="140652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913160" y="160812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460720" y="1490400"/>
              <a:ext cx="636840" cy="17316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520" y="6161040"/>
            <a:ext cx="9156600" cy="127080"/>
            <a:chOff x="20520" y="6161040"/>
            <a:chExt cx="9156600" cy="127080"/>
          </a:xfrm>
        </p:grpSpPr>
        <p:sp>
          <p:nvSpPr>
            <p:cNvPr id="63" name=""/>
            <p:cNvSpPr/>
            <p:nvPr/>
          </p:nvSpPr>
          <p:spPr>
            <a:xfrm>
              <a:off x="6460920" y="618012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0200" y="616572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0" y="616104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273320" y="3728880"/>
            <a:ext cx="6400800" cy="312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5000"/>
          </a:bodyPr>
          <a:p>
            <a:pPr marL="29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2"/>
          </p:nvPr>
        </p:nvSpPr>
        <p:spPr>
          <a:xfrm>
            <a:off x="7359480" y="651312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F2B-42CE-4814-B89D-96B65F8493B2}" type="slidenum">
              <a: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www.divinedigest.com/images/buddha.gif&amp;imgrefurl=http://www.divinedigest.com/buddhism.htm&amp;h=230&amp;w=150&amp;prev=/images%2525253Fq%2525253Dbuddha%25252526svnum%2525253D10%25252526hl%2525253Den%25252526lr%2525253D%25252526ie%2525253DUTF-8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www.dharma-haven.org/dharma-wheel.gif&amp;imgrefurl=http://www.dharma-haven.org/&amp;h=151&amp;w=149&amp;prev=/images%2525253Fq%2525253Ddharma%25252526svnum%2525253D10%25252526hl%2525253Den%25252526lr%2525253D%25252526ie%2525253DUTF-8%25252526sa%2525253DN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www.samaggi-phala.or.id/sti/images/sangha.jpg&amp;imgrefurl=http://www.samaggi-phala.or.id/sti/sekilas.shtml&amp;h=312&amp;w=417&amp;prev=/images%2525253Fq%2525253Dsangha%25252526svnum%2525253D10%25252526hl%2525253Den%25252526lr%2525253D%25252526ie%2525253DUTF-8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hyperlink" Target="http://images.google.com/imgres?imgurl=www.babaji.com/images/buddha.gif&amp;imgrefurl=http://www.babaji.com/&amp;h=191&amp;w=150&amp;prev=/images%2525253Fq%2525253Dbuddha%25252526start%2525253D20%25252526svnum%2525253D10%25252526hl%2525253Den%25252526lr%2525253D%25252526ie%2525253DUTF-8%25252526oe%2525253DUTF-8%25252526sa%2525253DN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jem.get2net.dk/civet-cat/buddha.gif&amp;imgrefurl=http://hjem.get2net.dk/civet-cat/&amp;h=198&amp;w=190&amp;prev=/images%2525253Fq%2525253Dbuddha%25252526svnum%2525253D10%25252526hl%2525253Den%25252526lr%2525253D%25252526ie%2525253DUTF-8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106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129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Buddhism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272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Papyrus"/>
                <a:ea typeface="Papyrus"/>
              </a:rPr>
              <a:t>The “middle way of wisdom and compassion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2500 year old tradition that began in India and spread through the Far Ea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Followed by more than 300 million peop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Based on the teachings of the Buddh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696080" y="76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136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159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 “</a:t>
            </a: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Three Jewels” of Buddh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057400"/>
            <a:ext cx="1165320" cy="1774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2895480"/>
            <a:ext cx="1459080" cy="147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53080" y="3959280"/>
            <a:ext cx="1828800" cy="1374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836360" y="2100240"/>
            <a:ext cx="417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Papyrus"/>
                <a:ea typeface="Papyrus"/>
              </a:rPr>
              <a:t>Buddha – the teac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00160" y="4522680"/>
            <a:ext cx="4636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Papyrus"/>
                <a:ea typeface="Papyrus"/>
              </a:rPr>
              <a:t>Dharma – the teaching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93920" y="5437080"/>
            <a:ext cx="482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Papyrus"/>
                <a:ea typeface="Papyrus"/>
              </a:rPr>
              <a:t>Sangha – the communi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7696080" y="76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171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194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Who was the Buddh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31640" y="1752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Born Siddhartha Gautama in India, 563 B.C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aised to be a k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Age 29:Rejected king to seek enlightenment and the solution to suffer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For six years he tried to figure the solution o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Age 35: achieved Nirvana -an awakening to the truth about life(Buddha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8520" y="152280"/>
            <a:ext cx="1351080" cy="170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201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224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86600" y="1077840"/>
            <a:ext cx="1670040" cy="174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What did the Buddha teach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5499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The Four Noble Truth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To live is to suff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Cause of suffering is self-centered desir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The solution is to eliminate desire and attach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The way to Nirvana is through the “Eight-Fold Path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231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254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What is the Eight-Fold Path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057400"/>
            <a:ext cx="354312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understand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motiv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2743200"/>
            <a:ext cx="27813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spee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a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livelihoo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83280" y="2743200"/>
            <a:ext cx="293364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effor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mindfulnes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medit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696080" y="76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965160" y="5041800"/>
            <a:ext cx="2438280" cy="211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ura</dc:creator>
  <dc:description/>
  <dc:language>en-US</dc:language>
  <cp:lastModifiedBy/>
  <cp:revision>0</cp:revision>
  <dc:subject/>
  <dc:title>Buddhism…</dc:title>
</cp:coreProperties>
</file>